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5E46-D523-407D-BD33-69DCE69E7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3898-CC95-4567-9D72-177408381E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BC0D-4C7A-4161-8F3D-F1C6FDB838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7863-5E67-4484-84FB-7818B51D21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9878-2ADE-44B2-B8A3-BB177863D8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98D6-E4AF-4FED-A307-CDB2BF907D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C99C-19D1-4E0D-9C6C-8CC66F0211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75D7-C924-411B-8592-633BE2D65E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0DD6-2E70-4B19-9FFB-84F5BE98F6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CDAD-63B4-42F6-B794-87C3828C35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B017-D56C-49E3-876A-867A2F4B7C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47DF-769A-479C-BB57-9D406B978C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AC8C-26C6-4858-B32C-F670875781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B0BC-694F-4F44-8139-C6744E3A30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4128-361E-4B71-A063-0759581E3D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0F18-623D-4E09-9C41-3EF3F01BF3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BFD4-246A-4E31-B392-0E0F45851A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CDB9-B477-4384-B24C-FFEB1E0CA1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49FA-61CE-4FB2-8CD9-DE937D6AC4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B28E-EE8A-4E6F-91CF-55B8B795CD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A1D5-F9C4-498D-94A7-E5024920F9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126C-3390-49EE-9A81-989F4AAFFB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AE4C-6C5C-431B-99F4-D76F83EFCE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C076-2646-485C-A207-8C6E263072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60BA-369F-4DE1-A9E3-571647AA15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5AE3-4C4F-438B-A18D-DBF0C4ED27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3C15-C773-4AA4-9BA4-FA8AA1B00E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F404-BB9D-4C8A-943E-D9E4795343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50A4-F2A9-4C3C-9350-578624BB2B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828C-168B-4B45-92EB-E11FFA954D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02FF-EF1A-4E2C-8227-E4178F1061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C38F-D27B-4560-BF4E-FF26BC449E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57B8-B6C6-425F-BD38-A9911E7B55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385-CFFF-42DD-831B-928E6D4C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F71-F427-4736-80DC-09702D92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CA8-394E-4A8C-A596-92F642E4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BDD-4DB1-4480-84C1-4D232E92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68AB-39E9-4C1D-B27D-83CC0731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C325-E1C2-4682-BDD2-780759F4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3378-7CB5-4826-97AD-9A247B02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EAC5-221F-4EA9-8576-C47A242B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023C-3258-42E3-BC25-176CB74E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977B-06D7-492A-B942-CD17B091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580D-E436-4B6E-B63C-BBE29E92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111-3639-4FFF-B53D-794E6F0E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A134-B977-4F7B-A930-74616185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1A9B-F140-4FEC-A351-2B0933F5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1D6F-5A23-4DD0-8903-44179CB4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32E5-2A86-45A6-924E-7CF35C52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1663-A923-457E-A947-9610AB7B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742-0CAA-431E-B4E2-00BB9E34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231-3AA6-407B-BE22-D694D9FF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F74-4D67-4156-9975-A59EE32B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0E6-F39F-4CBD-900F-8096C018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ABB-44E7-486B-BC1A-314E5306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2BE-02D3-4911-ADCB-88121666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816-EFA1-4AC1-A481-E63ED423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E771-C133-434E-B230-824EF64E7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D4C2-6318-4F7B-8CE0-0DE22A5B7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Arial"/>
              </a:rPr>
              <a:t>Management of Organizational Behavio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Johari Wind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nown to Se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known to Se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nown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blic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lin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known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vat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know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Johari Wind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ool is used to assess leadership personality(self perception and perception of oth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nown to Self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their knowledge of the way they are coming across to others and the impact they are having on oth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nknown to Self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ome areas leaders are unaware of how they are are coming across to oth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e to a lack of feedback or poor perception by the lea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nown and Unknown to Oth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are behaviors and attitudes that that are both known and unknown to oth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re feedback received by others the larger the public arena becomes and the blind arena becomes sm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clos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wo types of disclo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How they behave.(observing actions onl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Organizationally relevant information about how they think or beh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 the more disclosure the larger the public arena and the smaller the private are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lf-Perception versus Sty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-perception of leadership style can be measured using LEAD 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ship style can be measured using LEAD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discrepancy between self-perception and the way others perceive results in a small public are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re is no significant difference between the two then the public arena is lar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s It Too Lat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ilt is the greatest waste of emotional energy due to the feeling resulting from a past 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what can be done from this point forw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nger a behavior has been reinforced the longer it will take to chan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 e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ware of stressors and address their r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yle Profile 1-3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1 (high task behavior/ low relationshi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3 (high relationship behavior/ low tas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1-3 combo profile finds that these leaders classify people as theory X or theory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us they are either “For or Against” the lead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y are either “Good or Bad”, “Lazy or self-motivated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llowers perceive this as well and are aware of where they stand with the lead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erate readiness levels R2’s often become self- fulfilling prophecies moving up to R3 or down to R1 stat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se leaders do better with low or high readiness peo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 a problem, the R1’s seldom move up due to a lack of skills developed as part of this cyc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EAD instrument was designed to measure three aspects of leader behavi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yle range, or flex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yle adap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yle Profile 1-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1’s (high task/ low behavi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4’s (low task/ low behavi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leaders who use primarily these styles tend to classify groups as “Competent- leave alone” -or- “Incompetent -ride you” approach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se types either tell or deleg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y tend to be effective at crisis interventions and handling organizations with severe problems with limited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ut this type tends to lack the skills to take lower level readiness to a high lev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a evenly split readiness group these leaders will make followers either progress or regre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 &amp; 4 are the “risky styles” due to the amount of crisis that can occur if the styles aren’t effective.  Example: a low readiness group treated as a S4 leaving people on their own allows for a high probability of deteriorating environment thus problems.  As would be the opposite if a high readiness group was managed with a S1 creating much resent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yle Profile 2-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2’s (high task /high relationsh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3’s (low task/high relationsh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types tend to due well with groups of average readin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ever they find difficulty in handling discipline problems and work groups at low levels of readin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egation problem tend to inhibit maximum produ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a whole these types tend to be effective due to most people being a readiness 2 o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 making the 2-3 group the “safe styl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yle Profile 1-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1’s (high task / low relationshi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2’s (high task / high relationshi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se types tend to be able to raise and lower their socioemotional support but often fell uncomfortable unless they are “Calling the shot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amples of these types are sales managers that still love to sell or teachers who have become administrators yet still love to direct student activit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y often project “no one can do things as well as I” Thus often self-fulfi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se types tend to be effective with low to moderate levels of readiness. Also with manufacturing and production and crisis re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t these types typically don’t develop others to their full potent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yle Profile 2-4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2’s (high task / high relationsh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4’s (low task / low relationsh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types tend to not feel secure unless they are providing much of the direction, as well as developing a personal relationship with people in an environment characterized by two-way communication and socioemotional support (high relationships behavi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egation is rare and often ill-assig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mission of S3 tactics often lead to misinterpretation of low to high task delegations as punishments rather than autonom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yle Profile 3-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3’s (low task / high relationsh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4’s (low task / low relationsh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types are effective at raising and lowering their socioemotional support but feel uncomfortable initiating structure and providing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ork well with moderate to high levels of readin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good for decreasing levels or one’s needing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tend to learn and employ other techniques quick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yle Profiles for Different Levels of Manag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828800" y="2362320"/>
          <a:ext cx="5334120" cy="2590560"/>
        </p:xfrm>
        <a:graphic>
          <a:graphicData uri="http://schemas.openxmlformats.org/drawingml/2006/table">
            <a:tbl>
              <a:tblPr/>
              <a:tblGrid>
                <a:gridCol w="3886200"/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p Manag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3 – S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ddle Manag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3 –S4                              S1 –S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ervisory Manag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1 –S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wo-Style Profi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A basic style that encompasses two of the four possible configuration sty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A basic style and a supporting sty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info is crucial in a effective data stud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 ranging styles need a shorter time to become effective versus those with a smaller r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ll effective managers use all of the styles, as appropriat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ys to Building a Te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ng others in who will compliment their leadership style rather than replic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wide range of styles represents a wide range of problem resolution opportun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ose who understand each other’s ro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e Situational leadership with key followers and clarify what is expec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tracting for Leadership Sty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e Situational Leadership with key staff to enlarge everyone’s public are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 MBO- (Management by objectives program) implementation using the appropriate style in a contractual plan of goals and objectives delegated to key personn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ed style selection by all parties results in shared resul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adership Sty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leaders have 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ima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eadership sty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y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defined as the behavior pattern us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st oft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en attempting to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lu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th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condar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yle is one that is used o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cca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may hav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econdary style 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p to th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adiness Style Matc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s readiness using two dimen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Ability or job read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Willingness or psychological read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y status tends to vary little the willingness piece may change quickly and drama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Five Steps to Effective Task Accomplish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Establish objectives and performance cri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Reach  agreement on objectives and performance cri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Introduce Situational Leadershi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Complete readiness style mat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Meet to share data from Readiness Style M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 aspects of leadership behavi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Sty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Style 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Style adap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 diagnostic instruments for those Three asp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Johari Window used to assess self and other’s percep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-Style profiles and Contracting Leadership Style proc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yle Range, or Flexibi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yle r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extent to which leaders are able 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a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ir leadership sty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leader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n’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ary their styles thus they ar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ffective when the situation is compatible with that sty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 th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dify their behavior hav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e potential to be more effec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ow and high flexibility leadership situ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ow level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-level manag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ed ta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environmental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igh level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-level manag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ovative ta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pid environmental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yle Adaptabi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yle adaptabi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degree to which one c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ir styl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ppropria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the demands of a given situ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ide style range will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uarantee effectiveness; style range i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s relevant to effectiveness 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yle adaptabi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ro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yle used for any given situation will most likel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 be effec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ing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st appropri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yle to the situation is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ey for effective leadershi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illing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ing the four basic styles i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ssue; the question is one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illing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ce the new styles are learned and applied ironically tend to b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st effec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ue to being learn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n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ciou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y, practice , and applic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new styles results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gh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ness due to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gher foc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ther th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nate respon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adiness Levels and Leadership Sty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1905120"/>
          <a:ext cx="8915400" cy="4200480"/>
        </p:xfrm>
        <a:graphic>
          <a:graphicData uri="http://schemas.openxmlformats.org/drawingml/2006/table">
            <a:tbl>
              <a:tblPr/>
              <a:tblGrid>
                <a:gridCol w="1782720"/>
                <a:gridCol w="1722600"/>
                <a:gridCol w="1752480"/>
                <a:gridCol w="1905120"/>
                <a:gridCol w="1752480"/>
              </a:tblGrid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di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st” 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ond-best” 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ird-Best” 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ast Effective 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1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1 Tell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2 Sell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3 Participa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4 Delega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2      Low to 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2  Sell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1 Telling or S3 Participa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4            Delegating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3 Moderate to 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3 Participa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2 Selling or S4 Delega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1 Tell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4 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4 Delega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3 Participa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2 Sell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1 Tell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oosing the Appropriate Sty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is not entirely predicated on employing the best choice of style for every situ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may come from a secondary third or fourth choice if the leader so choo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 it’s not an all or nothing rather more aptly assessing readiness and choosing an appropriate sty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3:41:34Z</dcterms:created>
  <dc:creator>WSFCS Standard</dc:creator>
  <dc:description/>
  <dc:language>en-US</dc:language>
  <cp:lastModifiedBy>AEURY</cp:lastModifiedBy>
  <dcterms:modified xsi:type="dcterms:W3CDTF">2008-10-20T16:41:21Z</dcterms:modified>
  <cp:revision>6</cp:revision>
  <dc:subject/>
  <dc:title>Chapter 12  Building Effective Relationships</dc:title>
</cp:coreProperties>
</file>